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AA9-CE93-4549-AC4B-16CA4FB0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C6E-B30D-47B7-9D2C-45F4F127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881-4A05-441A-8CD0-92961BE1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8CB-C769-41E6-8A81-4DF6990D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F54-FC97-469C-B152-26B76F93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BC7-6236-472D-A47E-22362BD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476-C81F-4306-8B7F-60799A49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379-4B83-41A4-88BC-4C0A47BE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F96-7BA6-4FAA-9F8E-1C12291E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080-5B73-4B5D-87D2-C4DAB11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7F4-8E86-4D64-BEFC-D30674B9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D6C-59AB-400B-B528-23B27D7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EF72-7218-45B9-9CC4-0364674AF5F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, 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cover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vers hardware &amp; software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ication of mission critical IC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a backup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mulation of variety of disasters &amp; recover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Evaluating the effectiveness of data security measure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gr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uracy, reliability and timeliness in terms of storage, communication and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uracy, eg. storage, it contains all data; communication, arrives accurately, no viruses; disposal, selected files deleted or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aluate physical &amp; software security, eg. audit t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Evaluating the effectiveness of data security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ase of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bservance of folder &amp; file-naming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cked up files need to be able to be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urrency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sequential file-naming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Evaluating the effectiveness of data security management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7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of a risk manage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o can get access to physical environment &amp;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ti virus software, is it being upd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asswords, changed &amp; che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rganisations require policies to define how an information system should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ventions: subject heading &amp; message priority; signature of person sending it; privacy disclaimer at end of email; use of appropriate language; attachments sent in appropriat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le-naming con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lude datestamp, eg. newsletter 2006-11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ariation, newsletter 2006-11 v3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quential file-naming convention, newsletter 2006-11 03oct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me, meaning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of a 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ck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ll backup, 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tial backup, files that have changed since last full backup, uses only 2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mental backup, files changed only back up data that has changed since the last back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maller, faster than dif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mental backups give much greater flexibility they take longer to restore because the backup has to be reconstituted from the last full backup and all the incremental backups si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ck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ckup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toration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me name o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ckup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andparent-parent-chil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mental backup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tial backup at end of each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ll backup end of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back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eproof &amp; waterproof 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mote location, eg. anothe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f-site backup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est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rchiving/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g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ored on same type of media as 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ored in simila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licies required for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document with steps needed to restore company operations in event of a dis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ur key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mergenc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mes &amp; contact details of people to no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cedures to follow with computer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vacuation procedures for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tur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ck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alternative sites &amp;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backup data, supplies, eq/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nel responsible for gathering backup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chedule indicating order &amp; approximate time applications up and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26:59Z</dcterms:created>
  <dc:creator>Kelvin Baird</dc:creator>
  <dc:description/>
  <dc:language>en-US</dc:language>
  <cp:lastModifiedBy>01421606</cp:lastModifiedBy>
  <dcterms:modified xsi:type="dcterms:W3CDTF">2009-08-19T07:14:05Z</dcterms:modified>
  <cp:revision>5</cp:revision>
  <dc:subject/>
  <dc:title>Security, Security Procedures</dc:title>
</cp:coreProperties>
</file>